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B406-1532-4800-9975-9362225E3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67090-5A08-4335-82BF-D8B3A9F0C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95CF-1DA4-47A2-A6A2-5390347C1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080F-2558-4214-8C04-91ADF0D96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664F-3AF8-4D3C-9C25-4449E0A83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70AC-AC27-4175-814F-FC89E7FA5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2BC7-1181-4EB0-906C-4FA4BB62F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DEB3-4672-494B-AAC9-DBCB06710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8109-A5E0-441D-8DB2-928F20119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2D9C-E0FB-42CA-8A87-7C180EA2E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467B-44B4-45C2-9330-7181DD31F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2DDA-7550-4BE1-BA56-FA77AD6D0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DE22-2313-4BE1-921B-4717924BE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2BA-7602-4AC8-BCD3-D3314F82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C21B-FBD0-42F9-B014-D0947D0B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C40C-5E0A-4089-AC3C-B34F753D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683D-AAAB-4CC5-929F-DD398D9F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7D27-00E3-4AB2-8543-BCAD46E8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2D5-2B7C-4C43-88AA-C71FBF0E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F3E6-1696-4428-9AEE-9940FCF5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5377-B499-4CB6-87F0-7C7417D9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5C11-E2BB-4533-A34D-642B768B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B2ED-A792-45B9-B41F-95483DE1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5E19-A4F0-4DD3-B769-0758C211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E83D-F04C-47BA-BBE2-41D52A7B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7862-92F1-4751-96EC-AF1EF1A2D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faculty.washington.edu/moral/images/Giberli.jpg&amp;imgrefurl=http://faculty.washington.edu/moral/book.html&amp;h=534&amp;w=793&amp;prev=/images%3Fq%3Dprimary%2Bsuccession%26svnum%3D10%26hl%3Den%26lr%3D%26ie%3DUTF-8%26oe%3DUTF-8%26sa%3D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life.uiuc.edu/bio100/lectures/s97lects/05Succession/fire.GIF&amp;imgrefurl=http://www.life.uiuc.edu/bio100/lectures/sp98lects/05s98-succession.html&amp;h=408&amp;w=284&amp;prev=/images%3Fq%3Dsecondary%2Bsuccession%26svnum%3D10%26hl%3Den%26lr%3D%26ie%3DUTF-8%26oe%3DUTF-8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www.nybg.org/bsci/french_guiana/secsucc1.jpg&amp;imgrefurl=http://www.nybg.org/bsci/french_guiana/bat_disp.html&amp;h=201&amp;w=280&amp;prev=/images%3Fq%3Dsecondary%2Bsuccession%26svnum%3D10%26hl%3Den%26lr%3D%26ie%3DUTF-8%26oe%3DUTF-8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apter 10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cological Resto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28600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logical Succ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covery (to state prior to human disturbance) is possible if damage is not too gr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a good understanding of natural succession to facilitate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oration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ifficult on lands that hav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t organic matter due to leaching, overu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en subjected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the ultimate f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max st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it last forever with no disturb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l loss of nutrients in soil, slow biological deteri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3851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nsw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990360"/>
            <a:ext cx="8007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ms to be a balance betw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ddition of nutri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ecosystem as living things grow and die and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The climax state appears not to exist indefini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ioration appears to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4460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kinds of succe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mary succ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tablishment of an ecosystem where there was none 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Giberl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304920"/>
            <a:ext cx="3886200" cy="2784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6"/>
          <p:cNvSpPr/>
          <p:nvPr/>
        </p:nvSpPr>
        <p:spPr>
          <a:xfrm>
            <a:off x="5257800" y="32004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eating glac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Image21"/>
          <p:cNvPicPr/>
          <p:nvPr/>
        </p:nvPicPr>
        <p:blipFill>
          <a:blip r:embed="rId3"/>
          <a:stretch/>
        </p:blipFill>
        <p:spPr>
          <a:xfrm>
            <a:off x="0" y="2743200"/>
            <a:ext cx="4419720" cy="2895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t1.gstatic.com/images?q=tbn:ANd9GcQgnI0R1EQVvqqV6H8Y3B2cqbD8SRMefYf4R6LVEosA3vzbMdc&amp;t=1&amp;usg=__hKUJ71SpjAMBsanL-3rjTo_9_Ms="/>
          <p:cNvPicPr/>
          <p:nvPr/>
        </p:nvPicPr>
        <p:blipFill>
          <a:blip r:embed="rId4"/>
          <a:stretch/>
        </p:blipFill>
        <p:spPr>
          <a:xfrm>
            <a:off x="4800600" y="3809880"/>
            <a:ext cx="3924360" cy="2336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73240" y="5743440"/>
            <a:ext cx="37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d dune succ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4320" y="604836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c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condary succes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reestablishment of an ecosystem following disturb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fi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2209680"/>
            <a:ext cx="3657600" cy="3581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secsucc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133720"/>
            <a:ext cx="4191120" cy="3657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"/>
          <p:cNvSpPr/>
          <p:nvPr/>
        </p:nvSpPr>
        <p:spPr>
          <a:xfrm>
            <a:off x="838080" y="60958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n abandoned clearing or after a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851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terns of Species Change During Succ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7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Facili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Interf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Life History Differ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hronic Patchi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Cyc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3927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c mat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ectotree"/>
          <p:cNvPicPr/>
          <p:nvPr/>
        </p:nvPicPr>
        <p:blipFill>
          <a:blip r:embed="rId1"/>
          <a:stretch/>
        </p:blipFill>
        <p:spPr>
          <a:xfrm>
            <a:off x="4606920" y="1600200"/>
            <a:ext cx="3916440" cy="40845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4648320" y="57913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c matter is  soil’s best frie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img006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s store more chemical elements than living things, but cycle much more slow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ture ecosystems more elements are stored in the trees/flora and soils may be very p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1"/>
          <p:cNvSpPr/>
          <p:nvPr/>
        </p:nvSpPr>
        <p:spPr>
          <a:xfrm>
            <a:off x="914400" y="30492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highph2"/>
          <p:cNvPicPr/>
          <p:nvPr/>
        </p:nvPicPr>
        <p:blipFill>
          <a:blip r:embed="rId1"/>
          <a:stretch/>
        </p:blipFill>
        <p:spPr>
          <a:xfrm>
            <a:off x="228600" y="166680"/>
            <a:ext cx="4419720" cy="3216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Quartz Sands"/>
          <p:cNvPicPr/>
          <p:nvPr/>
        </p:nvPicPr>
        <p:blipFill>
          <a:blip r:embed="rId2"/>
          <a:stretch/>
        </p:blipFill>
        <p:spPr>
          <a:xfrm>
            <a:off x="457200" y="3505320"/>
            <a:ext cx="4095720" cy="25905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6"/>
          <p:cNvSpPr/>
          <p:nvPr/>
        </p:nvSpPr>
        <p:spPr>
          <a:xfrm>
            <a:off x="609480" y="6078600"/>
            <a:ext cx="3886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d is la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s less nutr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0" y="2438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y particles are very small and hold more nutr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drawing of relative particle size - 8.3 K"/>
          <p:cNvPicPr/>
          <p:nvPr/>
        </p:nvPicPr>
        <p:blipFill>
          <a:blip r:embed="rId3"/>
          <a:stretch/>
        </p:blipFill>
        <p:spPr>
          <a:xfrm>
            <a:off x="4952880" y="1447920"/>
            <a:ext cx="3733920" cy="4735440"/>
          </a:xfrm>
          <a:prstGeom prst="rect">
            <a:avLst/>
          </a:prstGeom>
          <a:ln w="0">
            <a:noFill/>
          </a:ln>
        </p:spPr>
      </p:pic>
      <p:sp>
        <p:nvSpPr>
          <p:cNvPr id="77" name="TextBox 7"/>
          <p:cNvSpPr/>
          <p:nvPr/>
        </p:nvSpPr>
        <p:spPr>
          <a:xfrm>
            <a:off x="5029200" y="3886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ce of surfac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304920"/>
            <a:ext cx="8007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urbances, such as fire, return elements to soil (highly water soluble) for rapid re-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rooted trees, from st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t2.gstatic.com/images?q=tbn:ANd9GcTsSDILxWtXqVKtA0SmvwDTWx2FIaOY3VhoVhlodwjzwVezrEE&amp;t=1&amp;usg=__8PGOcdI0QzeiNN_4HQD6epmWmMU="/>
          <p:cNvPicPr/>
          <p:nvPr/>
        </p:nvPicPr>
        <p:blipFill>
          <a:blip r:embed="rId1"/>
          <a:stretch/>
        </p:blipFill>
        <p:spPr>
          <a:xfrm>
            <a:off x="4648320" y="3505320"/>
            <a:ext cx="4267080" cy="3352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http://www.messiah.edu/Oakes/fungi_on_wood/club%20and%20coral/images/Tubifera%20ferrLogGE.jpg"/>
          <p:cNvPicPr/>
          <p:nvPr/>
        </p:nvPicPr>
        <p:blipFill>
          <a:blip r:embed="rId2"/>
          <a:stretch/>
        </p:blipFill>
        <p:spPr>
          <a:xfrm>
            <a:off x="762120" y="38862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4:10:22Z</dcterms:created>
  <dc:creator>tosborne</dc:creator>
  <dc:description/>
  <dc:language>en-US</dc:language>
  <cp:lastModifiedBy>tosborne</cp:lastModifiedBy>
  <dcterms:modified xsi:type="dcterms:W3CDTF">2011-10-27T19:53:04Z</dcterms:modified>
  <cp:revision>28</cp:revision>
  <dc:subject/>
  <dc:title>Chapter 9 Succession and Restoration</dc:title>
</cp:coreProperties>
</file>